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352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336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352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336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352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73360" y="18284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04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352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73360" y="40971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74840" y="40971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4840" y="18284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0971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4" marL="343080" indent="-3430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5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6"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819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Theme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sights into Human Natur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91440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cide whether each statement is true or fals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14400" y="2682720"/>
            <a:ext cx="79246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06360" indent="-1206360">
              <a:spcAft>
                <a:spcPts val="13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______—A story’s moral and a story’s theme are the same thing.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1206360" indent="-1206360">
              <a:spcAft>
                <a:spcPts val="13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______—The way the main character changes can help you determine theme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1206360" indent="-1206360">
              <a:spcAft>
                <a:spcPts val="13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______—Works of literature have only one theme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1206360" indent="-1206360">
              <a:spcAft>
                <a:spcPts val="13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______—Themes can be described using one or two word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14400" y="611280"/>
            <a:ext cx="7924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What Have You Learned?</a:t>
            </a:r>
            <a:endParaRPr b="0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3506760"/>
            <a:ext cx="99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990720" y="26668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90720" y="4338720"/>
            <a:ext cx="99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990720" y="4851360"/>
            <a:ext cx="99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AutoShape 15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09480" y="28195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The End</a:t>
            </a:r>
            <a:endParaRPr b="0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AutoShape 3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What Is Theme?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me is the central idea or insight revealed by a work of literatur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me gives meaning to the story by providing some idea or insight about human life and human natur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ometimes a work has several themes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mes are often universal. They apply to people everywhere because people all over the world have common desires, needs, and experiences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AutoShape 6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Theme </a:t>
            </a: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vs.</a:t>
            </a: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 Subject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subject is what the story is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about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spcAft>
                <a:spcPts val="825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The subject of “The Most Dangerous Game” is hunting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theme states what the subject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means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spcAft>
                <a:spcPts val="825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The theme of “The Most Dangerous Game” is that people who appear to be civilized may really be savage and bloodthirsty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AutoShape 5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Theme </a:t>
            </a: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vs.</a:t>
            </a: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 Moral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moral of a story is a rule of conduct or a practical lesson about lif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spcAft>
                <a:spcPts val="825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low and steady wins the race.”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theme is usually a much more complex and original revelation about lif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511200" indent="-112680">
              <a:spcAft>
                <a:spcPts val="825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aching your goals requires determination and sacrifice, but you have to be careful not to neglect your family and friends while working toward your goal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1240" y="615960"/>
            <a:ext cx="749592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Where Is the Theme?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914400" y="18288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7160" indent="-112680">
              <a:lnSpc>
                <a:spcPct val="100000"/>
              </a:lnSpc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 story’s theme is usually not stated directly.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901"/>
              </a:spcAft>
              <a:buClr>
                <a:srgbClr val="800000"/>
              </a:buClr>
              <a:buFont typeface="Arial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ll of the elements of the story—plot events, characters, setting, and dialogue—make up the them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3276720"/>
            <a:ext cx="4038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ory Elements: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224"/>
              </a:spcAft>
              <a:buClr>
                <a:srgbClr val="800000"/>
              </a:buClr>
              <a:buFont typeface="Arial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Brenda is athletic and wants her brother to excel in sports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224"/>
              </a:spcAft>
              <a:buClr>
                <a:srgbClr val="800000"/>
              </a:buClr>
              <a:buFont typeface="Arial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he is disappointed when her brother shows more interest in music than in sports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224"/>
              </a:spcAft>
              <a:buClr>
                <a:srgbClr val="800000"/>
              </a:buClr>
              <a:buFont typeface="Arial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fter hearing her brother give a great solo performance in the youth symphony, she decides to support and encourage his musical talents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257800" y="327672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me: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224"/>
              </a:spcAft>
              <a:buClr>
                <a:srgbClr val="800000"/>
              </a:buClr>
              <a:buFont typeface="Arial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llowing someone to pursue his or her own interests is more rewarding than trying to force someone to enjoy a specific activity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15960"/>
            <a:ext cx="79246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Stating a Story’s Theme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914400" y="18288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al guidelines for stating a story’s theme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tep 1: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ay attention to the main character’s actions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nd to the conflict. Ask yourself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8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How does the main character change during the story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8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What does he or she learn about life as a result of the story’s events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8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How is the conflict resolved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5960"/>
            <a:ext cx="79246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Stating a Story’s Theme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14400" y="182880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tep 2: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Use at least one complete sentence to state the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theme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1440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6872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al guidelines for stating a story’s theme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14400" y="3135240"/>
            <a:ext cx="7924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rect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“forgiveness”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“The theme is that people need to forgive past mistakes in order to move on and be happy.”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AutoShape 7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5960"/>
            <a:ext cx="79246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Stating a Story’s Theme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914400" y="182880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tep 3:  Express the theme as a generalization about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life or human nature. Do not refer to specific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haracters or events in the work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91440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6872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al guidelines for stating a story’s theme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rect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“The tie that Paul received from his father was one of his most treasured possessions.”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“Simple, everyday objects can have great value to the people who own them.” 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AutoShape 6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15960"/>
            <a:ext cx="79246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Stating a Story’s Theme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14400" y="182880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227160" indent="-1126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tep 4: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Remember that there’s more than one way to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tate a story’s theme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1440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6872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al guidelines for stating a story’s theme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4400" y="3143160"/>
            <a:ext cx="7924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8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Different people may interpret a story differently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3040" indent="-123840">
              <a:lnSpc>
                <a:spcPct val="100000"/>
              </a:lnSpc>
              <a:spcAft>
                <a:spcPts val="751"/>
              </a:spcAft>
              <a:buClr>
                <a:srgbClr val="800000"/>
              </a:buClr>
              <a:buFont typeface="Arial"/>
              <a:buChar char="•"/>
              <a:tabLst>
                <a:tab algn="l" pos="68724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You may even find several themes in one story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AutoShape 6">
            <a:hlinkClick r:id="" action="ppaction://hlinkshowjump?jump=endshow"/>
          </p:cNvPr>
          <p:cNvSpPr/>
          <p:nvPr/>
        </p:nvSpPr>
        <p:spPr>
          <a:xfrm>
            <a:off x="762120" y="64008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0:01:07Z</dcterms:created>
  <dc:creator>Amber Rigney</dc:creator>
  <dc:description/>
  <dc:language>en-US</dc:language>
  <cp:lastModifiedBy>Teacher</cp:lastModifiedBy>
  <cp:lastPrinted>2003-05-29T18:48:11Z</cp:lastPrinted>
  <dcterms:modified xsi:type="dcterms:W3CDTF">2010-12-02T12:32:45Z</dcterms:modified>
  <cp:revision>93</cp:revision>
  <dc:subject/>
  <dc:title>Title Master style Arial Bold 34pt.</dc:title>
</cp:coreProperties>
</file>